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579-DDF1-4345-9EB1-3811B693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7BC-3CB4-4C5D-B9FE-E6391E93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7D7-AEC7-438D-9B7A-DD6DF999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FEC-A103-4D29-AA95-F9EAC8F1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3412-8901-40C1-AAD6-3924D72F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EC46-0F31-4AAA-B208-899D9BCA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71F8-D6B1-4320-BF1D-113F9EEF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2E30-0150-4C2C-809B-D53D6FCA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0EE7-AE29-4980-B6A7-30D7ADF5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6CB2-911B-489C-B006-14770098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B697-9839-42B1-B397-B62DB310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05A-0A85-47B1-8FBA-9D19399D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7AF8-0D09-4517-8953-AEB96B9A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CBBB-28A1-4BF7-97AE-6DE10EC7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6A8A-F13F-4CD3-BB7C-93F6C4E5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DEC8-8606-405F-98F3-91112596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8DC5-FFD5-43E7-BBF6-89A51520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8A1-3915-490A-83A8-8ADED4CD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206-63A6-43DA-8E8C-5C7C163F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B36-5A0C-427A-8A79-50D8EBF7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CC2-94A6-4C86-9F86-0DF5C0C0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57F-5FCC-4205-B58A-006F4472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E17-3458-4A6D-9681-16130F8F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D60-478B-41BB-8B7A-5AC7EA85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0F16-0A62-4CC7-B5D7-8E93F5F0EE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962D-0482-425E-9842-63C93A9B78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e, Reuse, and Recyc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MCj04135240000[1]"/>
          <p:cNvPicPr/>
          <p:nvPr/>
        </p:nvPicPr>
        <p:blipFill>
          <a:blip r:embed="rId1"/>
          <a:stretch/>
        </p:blipFill>
        <p:spPr>
          <a:xfrm>
            <a:off x="533520" y="3505320"/>
            <a:ext cx="2590560" cy="24778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>
            <a:hlinkClick r:id="" action="ppaction://hlinkshowjump?jump=nextslide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Reduce, Reuse, and Recycle."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EHS Kids' P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13 June 2007. 1 Oct. 2007 &lt;http://kids.niehs.nih.gov/recycle.htm&gt;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to Energy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ergy Kid’s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2006. 1 Oc. 2007 &lt;http://www.eia.doe.gov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Wast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is anything released into the environment that could have a negative impact on that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American throws away 4.5 pounds of trash (waste) a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could be anything from paper to diapers or food to batter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nextslide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MCj04344510000[1]"/>
          <p:cNvPicPr/>
          <p:nvPr/>
        </p:nvPicPr>
        <p:blipFill>
          <a:blip r:embed="rId1"/>
          <a:stretch/>
        </p:blipFill>
        <p:spPr>
          <a:xfrm>
            <a:off x="5257800" y="76320"/>
            <a:ext cx="15620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n I do to help?: The Three R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means to make something smaller or use less, resulting in a smaller amount of was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ing something means to use a material again in its original form, or to give it to someone else who can us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ycling is when you save a reusable material and take it to where it can be made into something ne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MCj02328920000[1]"/>
          <p:cNvPicPr/>
          <p:nvPr/>
        </p:nvPicPr>
        <p:blipFill>
          <a:blip r:embed="rId1"/>
          <a:stretch/>
        </p:blipFill>
        <p:spPr>
          <a:xfrm>
            <a:off x="228600" y="4952880"/>
            <a:ext cx="11905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REDUC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less; buy only what you need and use all of what you bu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urable items instead of disposable ones.  For example, buy plastic plates that you can used many times instead of paper ones that you throw away after one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 store bags.  Carry the items you purchase from the store by hand, or bring your own cloth bag to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MPj03877650000[1]"/>
          <p:cNvPicPr/>
          <p:nvPr/>
        </p:nvPicPr>
        <p:blipFill>
          <a:blip r:embed="rId1"/>
          <a:stretch/>
        </p:blipFill>
        <p:spPr>
          <a:xfrm>
            <a:off x="5791320" y="228600"/>
            <a:ext cx="1087200" cy="15238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79246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REUS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ate used clothes to Goodwill or other char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loth diapers instead of disposable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bicycle breaks, fix it instead of throwing it away and getting a new bi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>
            <a:hlinkClick r:id="" action="ppaction://hlinkshowjump?jump=nextslide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MPj02161700000[1]"/>
          <p:cNvPicPr/>
          <p:nvPr/>
        </p:nvPicPr>
        <p:blipFill>
          <a:blip r:embed="rId1"/>
          <a:stretch/>
        </p:blipFill>
        <p:spPr>
          <a:xfrm>
            <a:off x="5562720" y="22860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RECYCL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everything at home and school can be recycled!  Check to see how your community recy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throw anything away that can be recycled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recyclable material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minum 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tic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MCj04299870000[1]"/>
          <p:cNvPicPr/>
          <p:nvPr/>
        </p:nvPicPr>
        <p:blipFill>
          <a:blip r:embed="rId1"/>
          <a:stretch/>
        </p:blipFill>
        <p:spPr>
          <a:xfrm>
            <a:off x="4724280" y="3886200"/>
            <a:ext cx="1730520" cy="18097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5">
            <a:hlinkClick r:id="" action="ppaction://hlinkshowjump?jump=nextslide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z: Which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e of the three R’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Cj04344110000[1]"/>
          <p:cNvPicPr/>
          <p:nvPr/>
        </p:nvPicPr>
        <p:blipFill>
          <a:blip r:embed="rId1"/>
          <a:stretch/>
        </p:blipFill>
        <p:spPr>
          <a:xfrm>
            <a:off x="4343400" y="2666880"/>
            <a:ext cx="2844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ps!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back and read, then try again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4238520000[1]"/>
          <p:cNvPicPr/>
          <p:nvPr/>
        </p:nvPicPr>
        <p:blipFill>
          <a:blip r:embed="rId1"/>
          <a:stretch/>
        </p:blipFill>
        <p:spPr>
          <a:xfrm>
            <a:off x="2971800" y="2819520"/>
            <a:ext cx="2922480" cy="3733560"/>
          </a:xfrm>
          <a:prstGeom prst="rect">
            <a:avLst/>
          </a:prstGeom>
          <a:ln w="0">
            <a:noFill/>
          </a:ln>
        </p:spPr>
      </p:pic>
      <p:pic>
        <p:nvPicPr>
          <p:cNvPr id="125" name="MSj01795.wav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/>
          <p:cNvSpPr/>
          <p:nvPr/>
        </p:nvSpPr>
        <p:spPr>
          <a:xfrm>
            <a:off x="76960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9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!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correc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MCj04280650000[1]"/>
          <p:cNvPicPr/>
          <p:nvPr/>
        </p:nvPicPr>
        <p:blipFill>
          <a:blip r:embed="rId1"/>
          <a:stretch/>
        </p:blipFill>
        <p:spPr>
          <a:xfrm>
            <a:off x="1523880" y="2819520"/>
            <a:ext cx="6324840" cy="38559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>
            <a:hlinkClick r:id="" action="ppaction://hlinkshowjump?jump=nextslide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MSj01795.wav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9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23:43:54Z</dcterms:created>
  <dc:creator>Sony</dc:creator>
  <dc:description/>
  <dc:language>en-US</dc:language>
  <cp:lastModifiedBy>Victoria Joy</cp:lastModifiedBy>
  <dcterms:modified xsi:type="dcterms:W3CDTF">2012-04-17T17:55:06Z</dcterms:modified>
  <cp:revision>17</cp:revision>
  <dc:subject/>
  <dc:title>Recycling</dc:title>
</cp:coreProperties>
</file>